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57D-59F2-467B-99C1-E2AE73A1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4DD-2AFE-4E16-9289-F5127F83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9D5-07BB-4542-838B-7E51B500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413-B487-457B-9F66-F5E747EA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D02-3003-41E3-8DFC-B78D1B86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7DD-048D-464F-BABB-057EC03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03F-BD68-477A-B989-0DE7526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0BA-B339-4218-A45F-1F321B21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507-D735-4CEE-8ADE-65160EC2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A54-A53D-4BF7-81C7-DF19D0C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E04-B45B-468E-B613-F6187D7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344-7E56-4C25-B91D-5B654B3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EB44-E785-4E85-AEED-0D688FA98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YPES OF EPI STUDI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2:58Z</dcterms:modified>
  <cp:revision>96</cp:revision>
  <dc:subject/>
  <dc:title>The Art in the State of the Art</dc:title>
</cp:coreProperties>
</file>